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D47-2844-4EB4-8DCD-A991F5A8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BE3-58D2-409C-9F08-89A3132B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577-2998-422F-83C9-5C4229A4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F9F-88D8-4641-B665-6896CB5C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768-7BF2-4496-9DE8-0237278C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1BF-424F-4AC8-81E9-567F7737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B02-A93B-4627-91B1-C3CE1699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FB1-0636-4694-864F-FD266FB6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64E-B06B-4131-B4CF-F2F8470A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F41-A07C-4826-88CC-3DEC526E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921-AF50-493A-8666-E4A5281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74D-C18C-4FE5-875D-FBC96351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46F9-D9FF-4D8B-B05C-68F3BCB1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Picture 6" descr="girl_taking_test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4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4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6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rparmigiani</cp:lastModifiedBy>
  <dcterms:modified xsi:type="dcterms:W3CDTF">2011-07-26T14:51:38Z</dcterms:modified>
  <cp:revision>6</cp:revision>
  <dc:subject/>
  <dc:title>Wheel of Fortune</dc:title>
</cp:coreProperties>
</file>